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ADD8-F273-4CCF-AB47-28C5ABC0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1B21-9BDA-4B88-A20F-7161D4BD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3F7-798E-48C3-A395-77FDC199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3139-F13D-49EE-BF61-5CBD303D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06BA-15E0-46AE-A431-08E57EBD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0C41-7FAB-44E1-9C74-52E48B89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0F65-241C-48BB-898B-60DF0B4E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F0B0-D786-43D8-9FD3-739873ED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56CD-1903-4237-9ECC-04EE3107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EE29-6266-4062-B29A-9A584283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91A5-DC31-46DB-B966-A654C5E0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ECC7-BB62-4526-B617-B4B4DC2E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FE9E-4001-4E2D-A1C1-945F0FA4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639C-E2CC-4B0C-96D7-129769C7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07B5-7CD2-4E6C-95CE-AC09DB2E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B67E-6FC3-4030-9FF0-88DC29C6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1234-C6F0-4F36-8E3B-39AADC62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FE23-EE58-41AF-8840-FFF5D531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142-6321-49C1-BD64-2AF35FC0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0C1D-A599-4E0F-958A-F17A03AA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31C3-F214-4A3A-9246-AF7C6C43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0D93-FED7-4E77-B173-F90C8D2A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17D5-2D21-438F-8F28-9C47C641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DF1C-496D-4D1B-B17D-766BFD64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9238-17D1-4F27-8046-B190D101A5D9}" type="slidenum">
              <a:rPr b="0" lang="pl-P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E910-1A5D-40D3-883B-4A051C8697BA}" type="slidenum">
              <a:rPr b="0" lang="pl-P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Błędy w stosowaniu określników chronologicznych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na Stolarczy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łędy w stosowaniu określników chronologicznych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kreślniki błęd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dańska, diecezja (katol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tnieje od 1925 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dańska, diecezja (katol.) – biografie – 18 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łędy w stosowaniu określników chronologicznych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kreślniki błęd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nedyktynki Misjonark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tnieje od 1917 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nedyktynki Misjonarki – biografie – 19-20 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łędy w stosowaniu określników chronologicznych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ystyka polska – 21 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ystyka polska – od 2001 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tografia polska – 21 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tografia polska – od 2001 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sja – polityka – 21 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sja – polityka – od 2001 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łędy w stosowaniu określników chronologicznych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ziesięć lat Kłodzkiego Towarzystwa Oświatowego : 1996-2005. – Kłodzko, 20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łodzkie Towarzystwo Oświatow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świata – organizacje – Polska - </a:t>
            </a:r>
            <a:r>
              <a:rPr b="0" lang="en-US" sz="3200" spc="-1" strike="noStrike">
                <a:solidFill>
                  <a:srgbClr val="ccff66"/>
                </a:solidFill>
                <a:latin typeface="Garamond"/>
              </a:rPr>
              <a:t>20-21 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łodzko (woj. dolnośląskie) - szkolnictwo i oświata – organizacje - </a:t>
            </a:r>
            <a:r>
              <a:rPr b="0" lang="en-US" sz="3200" spc="-1" strike="noStrike">
                <a:solidFill>
                  <a:srgbClr val="ccff66"/>
                </a:solidFill>
                <a:latin typeface="Garamond"/>
              </a:rPr>
              <a:t>20-21 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łędy w stosowaniu określników chronologicznych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łodzkie Towarzystwo Oświatow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świata – organizacje – Polska – </a:t>
            </a:r>
            <a:r>
              <a:rPr b="0" lang="en-US" sz="3200" spc="-1" strike="noStrike">
                <a:solidFill>
                  <a:srgbClr val="ccff66"/>
                </a:solidFill>
                <a:latin typeface="Garamond"/>
              </a:rPr>
              <a:t>od 1989 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łodzko (woj. dolnośląskie) - szkolnictwo i oświata – organizacje – </a:t>
            </a:r>
            <a:r>
              <a:rPr b="0" lang="en-US" sz="3200" spc="-1" strike="noStrike">
                <a:solidFill>
                  <a:srgbClr val="ccff66"/>
                </a:solidFill>
                <a:latin typeface="Garamond"/>
              </a:rPr>
              <a:t>od 1989 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łędy w stosowaniu określników chronologicznych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Statut : uchwalony 24.11.1993 r. wraz ze zmianami przyjętymi przez V (3.12.1997 r.), VI (27.11.2001 r.), VII (17.11.2005 r.), Krajowy   Zjazd Delegatów TWO / Towarzystwo Wiedzy Obronnej. – 200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owarzystwo Wiedzy Obronnej - statuty i regulami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ficerowie – organizacje – Polska -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20-21 w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ztuka wojenna – popularyzacja – organizacje – Polska -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20-21 w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łędy w stosowaniu określników chronologicznych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owarzystwo Wiedzy Obronnej - statuty i regulami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icerowie – organizacje – Polska –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od 1989 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ztuka wojenna – popularyzacja – organizacje – Polska –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od 1989 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łędy w stosowaniu określników chronologicznych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tografia polska – 19-20 w. – alb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tografia polska – alb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raje socjalistyczne – od 1945 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raje rozwijające się – od 1945 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larstwo – 19-21 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yka – od 1945 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zrael od 1945 r. - materiały konferencyj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łędy w stosowaniu określników chronologicznych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kreślniki typu: od, 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zkolnictwo – polityka – Polska - od 16 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winno by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zkolnictwo – polityka – Polska – 16-21 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ścioły chrześcijańskie  - do 7 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winno by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ścioły chrześcijańskie  - 1-7 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łędy w stosowaniu określników chronologicznych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emat – Gimnazja stosuje się wyłącznie dla prac o gimnazjach powstałych w Polsce po reformie szkolnictwa w 1999 r. Dlatego nie stosujemy po tym temacie określników geograficznych i chronologicznych za wyjątkiem określnika - stan na...(rok) dla dokumentów prawnych. Prace traktujące o gimnazjach w Polsce przed 1999 r. bądź w innych krajach powinny otrzymywać temat - Szkolnictwo średnie, bądź Szkolnictwo zawodowe z odpowiednimi określnikami geograficznymi i chronologicznymi. Zasada ta dotyczy też określnika - gimnazj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łędy w stosowaniu określników chronologicznych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kreślniki z datami wyrażonymi numerami wieków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nie kontrolowane : 15 w., 17-19 w., określniki zaczynające się od słowa „do” (do 15 w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kreślniki z datami rocznymi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kontrolowane, zakres stosowania ściśle określony : 1901-1914 r., 1956-1989 r., od 2001 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nie kontrolowane, stosowane w ściśle określonych przypadkach: stan na (rok), zamach (rok) – po nazwach osobowych, daty klęsk elementarnych, wyborów parlamentarnych, samorządowych, prezydenckic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łędy w stosowaniu określników chronologicznych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mnazja – Polska – od 2001 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czniowie gimnazjów – kultura – Polska – 1918-1939 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zkolnictwo ponadgimnazjalne – Polska – od 1989 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łędy w stosowaniu określników chronologicznych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kreślnik zbęd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ujawsko-pomorskie, województwo - rynek pracy - od 2001 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kreślnik błęd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ujawsko-pomorskie, województwo - służba zdrowia – organizacje – 20 w. - materiały konferencyj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łędy w stosowaniu określników chronologicznych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kreślników chronologicznych nie stosuje się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gdy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pracowywany materiał traktuje o całości dziejów jakiegoś zagadnieni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łędy w stosowaniu określników chronologicznych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s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akres chronologiczny od 16 w. (Iwan Groźny), prace dotyczące okresu wcześniejszego należy opisywać przy pomocy haseł: Ruś lub Moskiewskie, państw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łędy w stosowaniu określników chronologicznych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kreślniki zbęd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zlachta – biografie – Rosja - 16-21 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yplomacja – Rosja - 16-20 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sja – polityka - 16-20 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oryzmy - rosyjskie - 16-20 w. – antolog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łędy w stosowaniu określników chronologicznych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kreślniki zbęd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li Bra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tnieje od 1933 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li Bracia – biografie – Francja – 20 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szystkie dokumenty dotyczą bł. Karola de Foucauld, który zmarł w 1916 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łędy w stosowaniu określników chronologicznych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teratura starorus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iteratura białoruska – historia - do 17 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iteratura ludowa starorus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iteratura rosyjska – historia - do 17 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iteratura rus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iteratura ukraińska – historia - do 17 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łędy w stosowaniu określników chronologicznych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kreślniki błęd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ezja – rosyjska - historia - 16-18 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teratura ukraińska - historia 11-18 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teratura ukraińska – historia - 16-20 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teratura ukraińska - historia - do 19 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ezja białoruska 15-20 w. antolog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łędy w stosowaniu określników chronologicznych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kreślniki błęd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ałostocka, diecezja (katol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tnieje od 1992 r., do tego roku część diecezji wileńskie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ałostocka, diecezja (katol.) – od 1944 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09:26:50Z</dcterms:created>
  <dc:creator>a.stolarczyk</dc:creator>
  <dc:description/>
  <dc:language>en-US</dc:language>
  <cp:lastModifiedBy>a.borowska</cp:lastModifiedBy>
  <dcterms:modified xsi:type="dcterms:W3CDTF">2009-06-01T06:10:30Z</dcterms:modified>
  <cp:revision>47</cp:revision>
  <dc:subject/>
  <dc:title>Określniki chronologiczne w JHP BN</dc:title>
</cp:coreProperties>
</file>